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112-B3E3-49D8-B9F6-AF1D58F0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F9C-3292-4C5A-B593-9D2EC46A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9EB-2884-45B7-A2C0-7E89FD55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C80-E2CA-4D29-AE08-72F24146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4EF-1EB1-4FA4-BE57-4FEF5CB3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811-42A9-4B63-847E-EB83F89F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0DF-6E70-40A7-8789-EF471389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887-07D1-4FFE-80F8-5EE4126C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116-7363-44B9-94B1-B58ABA78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430-DED1-4EEE-B97D-05E775A6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92D-63D4-4ADA-8F6E-79C12503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B34-DCBD-4CDA-A2DB-092AAD0C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8FC2-7E22-4D76-BA6D-3D33C00BA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o0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o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o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o1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o1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o1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o0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o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o0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0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o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o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o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o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4:59:05Z</dcterms:created>
  <dc:creator>fabio.medessi</dc:creator>
  <dc:description/>
  <dc:language>en-US</dc:language>
  <cp:lastModifiedBy>fabio.medessi</cp:lastModifiedBy>
  <dcterms:modified xsi:type="dcterms:W3CDTF">2010-07-19T15:04:39Z</dcterms:modified>
  <cp:revision>2</cp:revision>
  <dc:subject/>
  <dc:title>Presentazione di PowerPoint</dc:title>
</cp:coreProperties>
</file>